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EA6-375B-4062-939D-9FEF5F06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F87-D1C6-4D11-9269-CB9432D3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0A6-D810-4696-A00B-07788A64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CEC-731A-4E73-9217-E629B63D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F4BF5-0C7C-4607-A4B8-92CF0163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FF2A1-18B5-466A-B43F-7BC56C9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E27CE-4A6C-4D5E-B408-AAAA51E4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420FA-22BC-465A-9723-8CC84508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59984-E3AB-4593-8BE3-5C49458D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853BC-5B7D-4101-AAF9-56C94E5B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DDA93-230F-4564-B42C-7EE63BB1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863-E57A-49C3-997A-0EAFFBC4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2E0D8-B2F4-4323-81BA-1C84519E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6913B-BC2E-45BD-BB4D-6E3C736A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97687-8172-497C-BE76-2CD51448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ED104-B633-42F9-A7CE-9B1DE159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BD3BC-9C93-46B9-A4F0-1C32165A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BC58-D43F-47C2-9F85-5F24DD28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002A-B672-4703-B6A6-4B2BE552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AF4F-B665-40D5-A778-BE6FE810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0C0A-600C-4C05-A191-A8984AA3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1BF0-F295-4BE3-80FD-0483C421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1DD-7E9F-458B-9E5D-C47A9440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9C97-B030-4A02-BBC0-4617886C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0117-80F1-4D97-A604-ABDD5B2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9AE7-AD0A-431A-89B1-08C2AA0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5ED6-AC3E-435D-A1AB-5D6199A0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5F7A-B435-4387-886A-15560039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5FBE-7D74-40B2-ADFF-C04E5CAC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77EC-F5AF-4D35-9EA7-BE712BC5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278C2-6AD4-4313-8E64-68B72FCF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6D08C-37F7-4D58-9669-B4563F2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67654-7D05-4B4F-8053-CD06BDD0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22A-BF13-44F5-B732-B5EE3C71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F7A19-ECC1-4F09-95F1-DD578322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3DB78-4CBD-47D9-8E77-E5DA9583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4F6E5D-AB62-42F9-BAB9-A8795731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FF679-9C06-4E57-B23C-07B63103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A602B0-8E6D-455C-854D-3FE2BF3A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FA237-D0E8-4C86-B0CB-AC87437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9ABE8-3E31-4E1F-A087-2FE3310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93C72-F6A1-4973-913A-F2582DDA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7E432-05DF-48A9-8FE3-0E5DA738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B9D-28EB-4FD7-99C2-9A6E6B1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442-5BC4-4F8C-98F7-7D9C5A76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B86-59C4-4E93-A84E-EA2A524D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8BD-0970-48B6-B01A-F3E13567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A3F-786F-4F8A-9666-D4356C43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78C8-1DDC-4F02-A8E3-F80E926B20F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B122-C736-445E-88FC-E6088B85DA5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C976-CCFB-45AF-9F25-80329AC4E79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F7A-1A6C-4039-BE9B-DEF43247C52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Presented by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Madison Lammon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and Kevin Gerb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208080" y="1427040"/>
            <a:ext cx="8796240" cy="1992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://t2.gstatic.com/images?q=tbn:ANd9GcTkjvXw3j-75gkmWZ7JjgcVuHOFPEbP1tGpDROlVYFThvU4fzvddxmvugXC"/>
          <p:cNvPicPr/>
          <p:nvPr/>
        </p:nvPicPr>
        <p:blipFill>
          <a:blip r:embed="rId2"/>
          <a:stretch/>
        </p:blipFill>
        <p:spPr>
          <a:xfrm>
            <a:off x="3200400" y="4746600"/>
            <a:ext cx="27432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6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Friends stay true through racism and slavery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Content Placeholder 8" descr="imagesCAC22QZR.jpg"/>
          <p:cNvPicPr/>
          <p:nvPr/>
        </p:nvPicPr>
        <p:blipFill>
          <a:blip r:embed="rId2"/>
          <a:stretch/>
        </p:blipFill>
        <p:spPr>
          <a:xfrm>
            <a:off x="4419720" y="914400"/>
            <a:ext cx="29764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0520" y="13712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0804"/>
                </a:solidFill>
                <a:latin typeface="Constantia"/>
              </a:rPr>
              <a:t>Well, I can tell you it made me all over trembly and feverish, too, to hear him, because I begun to get it through my head that he WAS most free – and who was to blame for it? Why, ME. I couldn't get that out of my conscience, no how nor no way. It got to troubling me so I couldn't rest; I couldn't stay still in one place. It hadn't ever come home to me before, what this thing was that I was doing. But now it did; and it stayed with me, and scorched me more and more. I tried to make out to myself that I warn't to blame, because I didn't run Jim off from his rightful owner; but it warn't no use, conscience up and says, every time, "But you knowed he was running for his freedom, and you could a paddled ashore and told somebody." That was so – I couldn't get around that noway. That was where it pinched. Pg. 89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0804"/>
                </a:solidFill>
                <a:latin typeface="Constantia"/>
              </a:rPr>
              <a:t>Jim was gone! I set up a shout- and then another- and then another one; and run this way and that way in the woods, whooping and screeching; but it warn’t no use- old Jim was gone. Then I set down and cried; I couldn’t help it.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0804"/>
                </a:solidFill>
                <a:latin typeface="Constantia"/>
              </a:rPr>
              <a:t>“</a:t>
            </a:r>
            <a:r>
              <a:rPr b="0" lang="en-US" sz="1600" spc="-1" strike="noStrike">
                <a:solidFill>
                  <a:srgbClr val="070804"/>
                </a:solidFill>
                <a:latin typeface="Constantia"/>
              </a:rPr>
              <a:t>All right, then, I’ll go to hell” – and tore it up. Pg 215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248600" cy="1231920"/>
          </a:xfrm>
          <a:prstGeom prst="rect">
            <a:avLst/>
          </a:prstGeom>
          <a:ln w="0">
            <a:noFill/>
          </a:ln>
        </p:spPr>
      </p:pic>
      <p:pic>
        <p:nvPicPr>
          <p:cNvPr id="178" name="final take of slide 3.wma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23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352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70804"/>
                </a:solidFill>
                <a:latin typeface="Constantia"/>
              </a:rPr>
              <a:t>Pooty soon I’ll  be a-shout’n for joy, en I’ll say, it’s all on accounts o’Huck; I’s a free man, en I couldn’t ever ben free ef it hadn’ ben for Huck; Huck done it. Jim won’t ever forgit you, Huck; you’s de bes’ fren’ Jim’s ever had;en you’s de only fren’ ole Jim’s got now.” pg.92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https://www.youtube.com/watch?v=Q1EVn0ncvSI (play until 2:20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slide 4.wma" descr=""/>
          <p:cNvPicPr/>
          <p:nvPr/>
        </p:nvPicPr>
        <p:blipFill>
          <a:blip r:embed="rId2"/>
          <a:stretch/>
        </p:blipFill>
        <p:spPr>
          <a:xfrm>
            <a:off x="73915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028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Poem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uck wants to turn Jim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'Cause he's been taught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lping slaves is a s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ut Huck has a change of hea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d now, to no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'll impa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knowledge of his lif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d Jim's innoce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se buds will never part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Picture 8" descr="Huck_and_Jim"/>
          <p:cNvPicPr/>
          <p:nvPr/>
        </p:nvPicPr>
        <p:blipFill>
          <a:blip r:embed="rId1"/>
          <a:stretch/>
        </p:blipFill>
        <p:spPr>
          <a:xfrm>
            <a:off x="4572000" y="609480"/>
            <a:ext cx="3333600" cy="4762800"/>
          </a:xfrm>
          <a:prstGeom prst="rect">
            <a:avLst/>
          </a:prstGeom>
          <a:ln w="0">
            <a:noFill/>
          </a:ln>
        </p:spPr>
      </p:pic>
      <p:pic>
        <p:nvPicPr>
          <p:cNvPr id="186" name="Untitledslide poem.wma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14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t each other’s ba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yed Tru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images.jpg"/>
          <p:cNvPicPr/>
          <p:nvPr/>
        </p:nvPicPr>
        <p:blipFill>
          <a:blip r:embed="rId2"/>
          <a:stretch/>
        </p:blipFill>
        <p:spPr>
          <a:xfrm>
            <a:off x="4191120" y="144792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190" name="last slide.wma" descr=""/>
          <p:cNvPicPr/>
          <p:nvPr/>
        </p:nvPicPr>
        <p:blipFill>
          <a:blip r:embed="rId3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287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er, Luv. "Poem about Life : Huckleberry Finn Summarization Poem (English Project)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Poems &amp; Quote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Poems and Quotes, 1 Jan. 2009-2012. Web. 26 Jan. 2012. &lt;http://www.poems-and-quotes.com/misc/poems.php?id=1025848&gt;."Huckleberry Finn &amp; Zombie Jim « Nic Klein Blog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Nic Klein Blog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Web. 23 Jan. 2012. &lt;http://nicklein.wordpress.com/2011/03/12/huckleberry-finn-zombie-jim/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"Media Absurdity » Blog Archive » The PC Huck Finn without the ‘N’ Word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Media Absurdity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Web. 20 Jan. 2012. &lt;http://mediaabsurdity.com/2011/01/05/the-pc-huck-finn-without-the-n-word/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"The Adventures of Huckleberry Finn and His Friend, S-word Jim - Kevin Marshall's America - Timesunion.com - Albany NY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Times Union Blogs - Timesunion.com - Albany NY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Web. 20 Jan. 2012. &lt;http://blog.timesunion.com/marshall/s-word-jim/3208/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"YouTube - Broadcast Yourself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YouTube - Broadcast Yourself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Web. 20 Jan. 2012. &lt;http://www.youtube.com/watch?feature=player_detailpage&gt;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Zara, I. "Elijah Wood Gets on Well with Mark Twain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Yareah Magazine. Literature and Art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Web. 26 Jan. 2012. &lt;http://yareah.com/?p=383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5:27:25Z</dcterms:created>
  <dc:creator> </dc:creator>
  <dc:description/>
  <dc:language>en-US</dc:language>
  <cp:lastModifiedBy> </cp:lastModifiedBy>
  <dcterms:modified xsi:type="dcterms:W3CDTF">2012-01-27T15:34:42Z</dcterms:modified>
  <cp:revision>21</cp:revision>
  <dc:subject/>
  <dc:title>Slide 1</dc:title>
</cp:coreProperties>
</file>